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696-12C9-4A04-9670-D702F7C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2FA-ED54-4015-B429-912AC91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9E4-2952-4009-902D-E03FAECE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5BB-755A-4A1F-9AFB-70730267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4E7-33CB-4D74-BB74-5DE3DCB3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B7B-250F-4B73-8861-D4C37CA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D87-A3AA-4098-A498-F625E64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9B6F-7448-4355-87B3-46BEF5F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1A9-1F51-4DA3-B187-0FC4759F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363B-60F3-4D1E-A371-0BB4FEF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71A6-3F9D-42B9-AF41-DD602E4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DD3-804C-435D-B8D7-FF28282C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66CD-8903-4E6E-B31B-058957F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4B44-A43C-4BE3-974F-A35961B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78B6-3E94-4302-BF06-25645F94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72D-E6B4-4298-9538-E19E9652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C98-C35A-4290-9CCD-FB2DFFA8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D825-1970-423D-9BDB-BB35D28A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B06C-B34B-48BC-BFCD-033EE1A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A6DB-02D4-47DE-BD77-488985DE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FF34-3891-47A7-8FE9-137E05F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BBFB-48EC-4EE0-83FA-A7F0D4E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72C-BC6A-48AA-93D6-D60A863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969E-E9D5-4E1A-9DF0-4653C71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681A-0B54-4836-81C5-77070B9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1A6C-9D4F-4F87-ACF1-7604B7B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AE08-04AF-4113-987F-F6BBD92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9286-D4AC-47B2-BCF9-4C129F7B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868A-EFB6-4D2F-AB02-F11045EF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353F-09BC-4AEE-A706-B4CB1F41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42A-72B8-4FE1-9B59-44E71EA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28B-622E-4E85-BF35-AD08FC9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16E-DD33-43FD-B972-1BB6473E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A08-F5FA-42F6-859B-1E83B55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4DB-77E7-4A61-896A-0C1A9C9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FA3-6ABF-42B5-A61D-E3EEE072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002-77B2-471F-85E0-481440644B4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159-ED37-457D-BEC4-093B961F9EB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E1C5-C02D-4739-B72D-825879A7B4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AA0-51FB-4451-A853-B965A5AB72E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3189-08A7-4B77-9BDB-DC84318EF7F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F22-BD52-4C33-BBFD-BEC239B0796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48852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c7c9f"/>
                </a:solidFill>
                <a:latin typeface="News Gothic MT"/>
              </a:rPr>
              <a:t>Recording Transactions Using a General Journal</a:t>
            </a:r>
            <a:endParaRPr b="0" lang="en-US" sz="45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175248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s that are not recorded in either the Sales Journal or Cash Receipts Journal are recorded in the General Jour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) Sales Returns and 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) Correcting Entries (Affect customer accounts, but not the controlling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Re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llow a customer for the sales price of returned merchand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Allow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llowed a custom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ales price of merchandise that is not retur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6858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c7c9f"/>
                </a:solidFill>
                <a:latin typeface="News Gothic MT"/>
              </a:rPr>
              <a:t>CREDIT MEMORANDUM FOR SALES RETURNS AND ALLOWANCES</a:t>
            </a:r>
            <a:endParaRPr b="0" lang="en-US" sz="3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7" name="Picture 4" descr="D:\C21 PowerPoint\Multi_Journal\art for blue\Ch19\Ch19-03a.jpg"/>
          <p:cNvPicPr/>
          <p:nvPr/>
        </p:nvPicPr>
        <p:blipFill>
          <a:blip r:embed="rId2"/>
          <a:srcRect l="28727" t="0" r="0" b="64947"/>
          <a:stretch/>
        </p:blipFill>
        <p:spPr>
          <a:xfrm>
            <a:off x="457200" y="1830240"/>
            <a:ext cx="7543800" cy="4494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344360" y="66301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0424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JOURNALIZING SALES RETURNS AND ALLOWANCES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Picture 4" descr="D:\C21 PowerPoint\Multi_Journal\art for blue\Ch19\Ch19-03b.jpg"/>
          <p:cNvPicPr/>
          <p:nvPr/>
        </p:nvPicPr>
        <p:blipFill>
          <a:blip r:embed="rId2"/>
          <a:srcRect l="23647" t="0" r="0" b="77498"/>
          <a:stretch/>
        </p:blipFill>
        <p:spPr>
          <a:xfrm>
            <a:off x="457200" y="1249200"/>
            <a:ext cx="8229600" cy="2781360"/>
          </a:xfrm>
          <a:prstGeom prst="rect">
            <a:avLst/>
          </a:prstGeom>
          <a:ln w="0">
            <a:noFill/>
          </a:ln>
        </p:spPr>
      </p:pic>
      <p:sp>
        <p:nvSpPr>
          <p:cNvPr id="131" name="Oval 6"/>
          <p:cNvSpPr/>
          <p:nvPr/>
        </p:nvSpPr>
        <p:spPr>
          <a:xfrm>
            <a:off x="1219320" y="29257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762120" y="25448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257800" y="25448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7086600" y="239220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1828800" y="23162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14440" y="5446800"/>
            <a:ext cx="40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Memorandum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14440" y="4708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14440" y="5810400"/>
            <a:ext cx="32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Return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14440" y="507348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Debi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14440" y="617220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Debi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7344360" y="6277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4572000" y="5446800"/>
            <a:ext cx="40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onal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572000" y="47084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Sales Tax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4572000" y="5810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mount of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507348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22"/>
          <p:cNvSpPr/>
          <p:nvPr/>
        </p:nvSpPr>
        <p:spPr>
          <a:xfrm>
            <a:off x="2209680" y="345924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23"/>
          <p:cNvSpPr/>
          <p:nvPr/>
        </p:nvSpPr>
        <p:spPr>
          <a:xfrm>
            <a:off x="5486400" y="3382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8381880" y="307800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7086600" y="30020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457200" y="41720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Sales Return/Allowance, the busin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 the sales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c7c9f"/>
                </a:solidFill>
                <a:latin typeface="News Gothic MT"/>
              </a:rPr>
              <a:t>JOURNALIZING CORRECTING ENTRIES AFFECTING CUSTOMER ACCOUNTS</a:t>
            </a:r>
            <a:endParaRPr b="0" lang="en-US" sz="29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D:\C21 PowerPoint\Multi_Journal\art for blue\Ch19\Ch19-03c.jpg"/>
          <p:cNvPicPr/>
          <p:nvPr/>
        </p:nvPicPr>
        <p:blipFill>
          <a:blip r:embed="rId2"/>
          <a:srcRect l="24556" t="0" r="0" b="75828"/>
          <a:stretch/>
        </p:blipFill>
        <p:spPr>
          <a:xfrm>
            <a:off x="457200" y="1401840"/>
            <a:ext cx="8229600" cy="263988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2286000" y="3306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57200" y="2544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57800" y="2544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708660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676520" y="23162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14440" y="49006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andum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4440" y="4162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14440" y="526428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4440" y="452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14440" y="56260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rectly Charged 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7344360" y="643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3059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440" y="59911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Summary of Posting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57200" y="990720"/>
            <a:ext cx="80773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ing from a General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mount in the Debit and Credit columns of the General Journal is posted to the Account named in the Account Title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a Schedule of Accounts Rece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reparing the Schedule of Accounts Receivable, you can compare and then prove the Accounts Receivable Led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ggested Order of Posting from Specia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General Ledger account balances are only needed when preparing financial statements, keeping the subsidiary ledger accounts help maintain accurate rec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) Sales  2.) Purchases  3.) General  4.) Cash Receipts 5.) Cash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7:52:21Z</dcterms:created>
  <dc:creator>Mary Colleen McLaughlin</dc:creator>
  <dc:description/>
  <dc:language>en-US</dc:language>
  <cp:lastModifiedBy>David Combs</cp:lastModifiedBy>
  <cp:lastPrinted>1999-04-08T20:10:15Z</cp:lastPrinted>
  <dcterms:modified xsi:type="dcterms:W3CDTF">2011-09-19T23:33:31Z</dcterms:modified>
  <cp:revision>61</cp:revision>
  <dc:subject/>
  <dc:title>ADJUSTING ENTRY FOR SUPPLIES</dc:title>
</cp:coreProperties>
</file>